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whoo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5EA-B5BC-4907-80D8-9FBE78D7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C7A-34BC-49BA-B77D-AD65837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20A-F796-4289-9272-7815C822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B91-8E30-4389-9EAB-68A544AE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78F-E70F-4490-9CAE-877203D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7B6-9C86-47B7-87ED-95EF1B26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291-BA18-401E-AC2F-B29512DA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FE8-7844-4F85-8A5E-A6F577FF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199-B92A-4A3C-88E6-1E41E4B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D81-A202-4C91-B7CA-E8E258F3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387-F9C3-44FE-81F2-1FB00EDF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591-1087-40A9-8B41-A1099DBA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46A9-B185-4654-BA5A-0CE479593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do scientists prefer to use the mass of an object instead of its weight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tists prefer to use an objects mass instead of its weight because mass does not change when the force of gravity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weight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asure of the force of gravity acting on an ob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asure of the amount of matter an object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t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material that all objects and substances are made up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thing that has mass and takes up space is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ic unit of mass in the SI system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ilogr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s such as paper clips would be measur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illi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s such as paper cups would be measured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8380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its of Ma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2133720"/>
          <a:ext cx="6096240" cy="289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65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asuring Mas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a triple-beam balance work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riple-beam balance works by comparing the mass of the object you are measuring to a known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use a triple-beam balance, yo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object on the 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ift the riders on the beams until they balance the mass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ith the large rider (increments of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the medium sized rider (increments of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420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tly, the small rider (increments of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3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-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mass of this turtle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C:\Documents and Settings\conantt\My Documents\My Pictures\2006-10 (Oct)\scan.jpg"/>
          <p:cNvPicPr/>
          <p:nvPr/>
        </p:nvPicPr>
        <p:blipFill>
          <a:blip r:embed="rId1"/>
          <a:stretch/>
        </p:blipFill>
        <p:spPr>
          <a:xfrm>
            <a:off x="-228600" y="2209680"/>
            <a:ext cx="9650520" cy="435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800" y="464796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3.7 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Ma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would your weight differ if you were to travel to the moon?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517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were to travel to the moon your weight would be l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weight would be lesser because the force of gravity is les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t is a factor of the force of gra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8906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ifference Betwe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s and Weigh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would your mass stay constant if you were to travel to the moon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mass would stay the same if you were to travel to the moon because mass is the amount of matter that an object 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still made up of the same amount of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ff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our mass would not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cp:lastPrinted>2012-09-24T17:57:34Z</cp:lastPrinted>
  <dcterms:modified xsi:type="dcterms:W3CDTF">2012-09-24T18:07:19Z</dcterms:modified>
  <cp:revision>14</cp:revision>
  <dc:subject/>
  <dc:title>Measurement-A Common Language</dc:title>
</cp:coreProperties>
</file>